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D6B5-EDFC-4CE6-B77B-527EA931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0829-3347-4763-A23B-D3E534F5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0038-FB79-4B1F-A416-FD576541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D1E6-62E6-4449-A537-D8B38FEB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2E58-DA3D-4EB6-B259-419224FF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4700-B40D-4512-885C-E294D662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E47A-710F-45C3-8323-4FAC59F9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D9E6-C607-410D-B5F8-BB79F740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3261-4596-4D89-AA7A-2B06E4D6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8420-F09C-4605-BAA3-1B78E8A8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BEB4-1542-428B-A9BF-D0E019DF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560E-356C-4F18-914C-E54CE118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B3AB-FC09-45E3-8A9D-324CF377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00DB-A1A8-4F62-92A8-1C093D14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07FE-B499-4350-9859-B8DC6ABA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3368-CEE8-49B4-9D16-B92DAFBD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549E-B921-42C6-ACF5-5B736504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6687-E2D0-40D1-9010-294E15CB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C6FD-321B-4AC4-80AB-475CBC0E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88E3-264F-44EE-B411-EE6B322F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2C50-A7B7-48B8-8B6E-9E1847F8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F70C-1DA9-4EAF-926F-0B904473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3966-C039-4BEF-A1F4-9313099D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9EB1-9DFE-4C60-B5F3-A87D73DA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B269-0D6F-4CBC-8246-6F0FEF1D241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149A-6DDE-4DB3-9D58-DE0C40AA73A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739160" y="2653560"/>
            <a:ext cx="658008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f Mice and 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5715000" y="914400"/>
            <a:ext cx="3068640" cy="5257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y John Steinbe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t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Lying is never acceptable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ent their a lot of quoted passages in youre short story char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tudents have sold many newspaper subscriptions the computer doesnt cost them to muc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alog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ourney: destination::_______:finish 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eight:train::cargo::______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nk about the following statements. Write whether you agree or disagree with them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hey are all things that appear in our new nove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t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Having friends fulfills our basic human needs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t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People who are strong know their strength, and how much they can hurt other people if they wanted to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t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It is unnatural for people to have an attachment to, or feelings for, an animal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t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The purpose of life is to strive for, and eventually reach, our goals and dreams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t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Killing another human being is intolerable, and should be punished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t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Running away from a crime is never acceptable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0:12:24Z</dcterms:created>
  <dc:creator>student</dc:creator>
  <dc:description/>
  <dc:language>en-US</dc:language>
  <cp:lastModifiedBy>Angie McCall</cp:lastModifiedBy>
  <dcterms:modified xsi:type="dcterms:W3CDTF">2011-10-21T16:57:53Z</dcterms:modified>
  <cp:revision>3</cp:revision>
  <dc:subject/>
  <dc:title>Of Mice and Men</dc:title>
</cp:coreProperties>
</file>